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94F2-025C-472B-ABB9-7EAFF127E2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 Structure an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(producers) can use light energy to make their own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cess is called 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green because they contain a chemical called chlorophyll.  This chemical is used to trap ligh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is contained in the chloroplasts of plant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 is used to change carbon dioxide and water into starch and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d equation for photosynthesis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   + 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 + 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of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580-0C5B-4B1D-AC75-C29E3366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FAE-5843-4841-BA7E-0D5AB67B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4D9A-B6B3-43D7-9E07-D8517070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D32-954A-41C5-AE64-C1CC0A3F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E81F-4072-4093-BBB2-69CBBA5E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9EA-64C6-4ADF-8AD7-F30B2C54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49FF-95F7-4EA1-A335-32CB8850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3379-D9BD-4EFF-B082-A0403568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2D80-C447-4DA5-8C41-566B6114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FC3-B194-4B0E-8A81-15DA1B70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4301-AEAA-449A-8F9C-660A32FB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8A7-2900-4A5D-B139-6DBF2270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E00B-4CFF-471D-AC02-3B603B465E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eaf Structure and 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hotosyn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(producers)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n us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light energ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o make their own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is process is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reen plants are green because they contain a chemical calle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  This chemical is used to trap light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hyl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contained in th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hloroplasts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plant ce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energy is used to change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carbon dioxid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nto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starch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word equation for photosynthesis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rbon    +  wate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rch  + 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ox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4"/>
          <p:cNvSpPr/>
          <p:nvPr/>
        </p:nvSpPr>
        <p:spPr>
          <a:xfrm>
            <a:off x="3733920" y="441972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574800" y="3889440"/>
            <a:ext cx="16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Light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ructure of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467480" cy="51339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tarch Test a Lea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295280" y="1020600"/>
            <a:ext cx="6686640" cy="583740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40:41Z</dcterms:created>
  <dc:creator>hhashmi</dc:creator>
  <dc:description/>
  <dc:language>en-US</dc:language>
  <cp:lastModifiedBy>LEGION2</cp:lastModifiedBy>
  <dcterms:modified xsi:type="dcterms:W3CDTF">2016-01-13T08:43:48Z</dcterms:modified>
  <cp:revision>7</cp:revision>
  <dc:subject/>
  <dc:title>Leaf Structure and Photosynthesis</dc:title>
</cp:coreProperties>
</file>